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B62-E256-47FF-9BEA-0B33C7EF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237-FC8D-4D12-8F5C-31D0E64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CE3-763D-4AB6-94DB-47396982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664-FE66-451B-8F45-7B40A3C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B2-C141-4C80-BDB3-57F57672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B09-0586-4256-8652-EEB3985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B61-8C3C-467C-B377-C0385AE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4AA-06CA-403B-926D-699F3DB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547-5E3A-493F-8B5A-60979FD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83D-0F63-49B4-BBA5-6FB390D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8D0-9D9C-434C-9C23-1BE7490D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D0C-2842-4547-859F-8F6A749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4EB0-4400-46AC-8AE9-C06A4143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ndb.com/people/612/000091339/dennis-rader-1.jpg&amp;imgrefurl=http://www.nndb.com/people/612/000091339/&amp;h=224&amp;w=300&amp;sz=8&amp;tbnid=RIaxA6lggLsJ:&amp;tbnh=82&amp;tbnw=111&amp;hl=en&amp;start=4&amp;prev=/images%3Fq%3DDennis%2BRader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orensic Psych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Ki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ching Serial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TK K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is 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ed 34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grown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as a code enfor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 Scout leader, active in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124080"/>
            <a:ext cx="2590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inal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determine the types of personality characteristics the kill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reduce population from which the killer is am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likelihood of ca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of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rostitutes murdered &amp; disembowe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Thomas Bond (surge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autopsy on #5.  Offered “thought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r/Hatred towards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ool, &amp; dar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ear a cloak to hide blood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-aged, loner, no real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iatric Approach to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’s-196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Berg questioned Peter Kurten (German serial killer in prison 19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analyses to help understand cr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yet behavioral pro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James Bru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explosions in 1940’s-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any angry letters to newspapers, politicians, &amp; utility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Brussel examined &amp; offered though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, ethnicity, motivation, age, personal appearance, mental status, living arrangement, religion, &amp;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Dr. James Brussel"/>
          <p:cNvPicPr/>
          <p:nvPr/>
        </p:nvPicPr>
        <p:blipFill>
          <a:blip r:embed="rId1"/>
          <a:stretch/>
        </p:blipFill>
        <p:spPr>
          <a:xfrm>
            <a:off x="6400800" y="380880"/>
            <a:ext cx="203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BI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increase in number of mu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methods for analyzing unknown offenders in unsolv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ing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“art” tha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 scene, weapon, dump site, details about the victim (victimology), transportation, time of day, position of items in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i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mov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personal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ind &amp; mental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level (prostitute vs. girl in h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when the killer crossed pa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s opera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&amp; Psychiatr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al Killer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oined by Robert Ressler in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irst in the Ted Bund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“accepted” serial killer was Jack the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al Killers – Basic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kill for material “profi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 often has symbolic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ose vulnerable victi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itutes, Runaway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Serial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 36 incarcerated serial kil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4: By FBI agent Robert Ress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90% are white, 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, sexual, emo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elty toward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Serial Killer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fire (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60% still wetting bed at age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andoned by fathers; domineering m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e their fa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psychiatric problems; high suicide attemp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Motives for Serial Mu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Categories of Serial Ki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iona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d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donistic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gratification is main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donistic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ilar to lust but not a sexua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– Hannibal Lecter – wanted to be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3:06:38Z</dcterms:created>
  <dc:creator> </dc:creator>
  <dc:description/>
  <dc:language>en-US</dc:language>
  <cp:lastModifiedBy>Theresa DeLaurentis</cp:lastModifiedBy>
  <dcterms:modified xsi:type="dcterms:W3CDTF">2008-03-10T22:57:14Z</dcterms:modified>
  <cp:revision>17</cp:revision>
  <dc:subject/>
  <dc:title>Forensic Psychology</dc:title>
</cp:coreProperties>
</file>